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11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27C-556D-4AB1-84A9-8D7BE4AA4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5E72-A29A-4EC5-AE43-4FF5C72F91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DEF-815E-4AE3-AD18-6FCCCA3EF9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C537-4BAA-4DA9-95D8-7DC5E51B8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CDF-78BA-4103-9A87-333A7A88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5AB-CE26-4069-9B1D-34997AC1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99A-9EBB-49F9-BA6E-82634CA2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810-3455-4906-83BC-5476A305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506-98C9-4E52-9C1A-CAB2986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8F0-6E98-43AB-806C-BC60A133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33E-5095-40D8-9B02-E42FB92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314-C5C0-4AE4-81B3-D7F6B865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EED-0D96-49DB-AD47-3A758C84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E59-9352-4463-BF5D-FB68A59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FC1-9166-438D-A7EF-7EDE38F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BF9-5254-43F8-A77F-C00CCF2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1FF-97A0-49A8-ACDA-CEDA29B7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es fona"/>
          <p:cNvPicPr/>
          <p:nvPr/>
        </p:nvPicPr>
        <p:blipFill>
          <a:blip r:embed="rId1"/>
          <a:stretch/>
        </p:blipFill>
        <p:spPr>
          <a:xfrm>
            <a:off x="3124080" y="608040"/>
            <a:ext cx="2895840" cy="1884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299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 ВОЗМОЖНОСТИ ПОЛУЧЕНИЯ ВЫСШЕ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ВОЕННО-УЧЕБНЫХ ЗАВЕД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"/>
          <p:cNvSpPr/>
          <p:nvPr/>
        </p:nvSpPr>
        <p:spPr>
          <a:xfrm>
            <a:off x="141120" y="1052640"/>
            <a:ext cx="89298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0 января по 25 мар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брать все документы для формирования личного 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дидат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азанные в выданном перечне, и сдать их в отдел ВКСО (по месту жительст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ить сроки и порядок прохождения областной военно-врачебной комис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деле ВКСО (по месту жительст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олжить свою личную подгот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ступления в военно-учебное за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30 марта по 20 м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йти медицинское об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бластной военно-врачебной комисс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ершить сбор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формирования личного дела кандид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ировать отправку личного 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енно-учебное заве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06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Прямоугольник 6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0" y="620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50920" y="1082520"/>
            <a:ext cx="871380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21 мая по 1 июл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ончить свою личную подгот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ступления в военно-учебное за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получения из военно-учебного заведения выз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быть в отдел ВКСО (по месту жительства) и получить воинские перевозочные документы для БЕСПЛАТНОГО проезда в ВУ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по-10 ию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огласно полученного вызов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быть и ПОСТУПИТЬ в В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1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Прямоугольник 7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8000" y="907920"/>
          <a:ext cx="9001080" cy="5940360"/>
        </p:xfrm>
        <a:graphic>
          <a:graphicData uri="http://schemas.openxmlformats.org/drawingml/2006/table">
            <a:tbl>
              <a:tblPr/>
              <a:tblGrid>
                <a:gridCol w="9001080"/>
              </a:tblGrid>
              <a:tr h="277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ВОЙСКОВЫЕ ВУ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 (г.Москва) Военный институт (общевойсков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Новосибир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Благовеще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Каза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ВОЗДУШНЫЕ С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 (г.Воронеж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(филиал г.Краснода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(филиал г.Челяби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(филиал г.Сызра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ОРСКОЙ Ф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г. С.-Петербург) военный институт (военно-морск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г. С.-Петербург) военный институт (военно-морской политехн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филиал г.Калинингра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филиал г.Владивос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оморское высшее военно-морское училище (г.Севастопо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ЕТНЫЕ ВОЙСКА СТРАТЕГИЧЕСКОГО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РВСН (г.Моск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РВСН (филиал г.Серпухов Москов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г. Санкт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филиал г. Твер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филиал г. Ярослав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2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Прямоугольник 7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ВОЕННО-УЧЕБНЫХ ЗАВЕ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08000" y="260280"/>
          <a:ext cx="8939160" cy="6429240"/>
        </p:xfrm>
        <a:graphic>
          <a:graphicData uri="http://schemas.openxmlformats.org/drawingml/2006/table">
            <a:tbl>
              <a:tblPr/>
              <a:tblGrid>
                <a:gridCol w="8939160"/>
              </a:tblGrid>
              <a:tr h="238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ЙСКА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связи (г. С.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связи (филиал г.Краснода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повецкое ВВИУ радиоэлектроники (филиал г.Череповец Вологодской обл.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г. С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г. С-Петербург) военный институт (ж/дорожных войск и военных сообщений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С.-Петербург), военный институт (инженерно-техн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 Вольск, Саратов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 Пенз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Ом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ЬНЫЕ РОДА ВОЙ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занское высшее воздушно-десантное командное училище (военный институ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менское высшее военно-инженерное командное училище (военный институ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войск радиационной, химической и биологической защиты и инженерных войск (г.Костром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хайловская военная артиллерийская академия (г.С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противовоздушной обороны (филиал г. Смоле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ый университет г. 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технический университет (г. Балаших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едицинская академия (г. С.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едицинская академия (г. С.-Петербург), Военный институт (физической культур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ЗЫ МВД, 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ский военный институт ВВ МВД России (г. Санкт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товский военный институт ВВ МВД России (г. Сара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мский военный институт ВВ МВД России (г. Перм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осибирский военный институт ВВ МВД России (г. Новосибир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адемия гражданской защиты МЧС (г. Моск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204840"/>
          <a:ext cx="8713800" cy="639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840"/>
                    <a:ext cx="8713800" cy="63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0920" y="209520"/>
          <a:ext cx="8642160" cy="643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9520"/>
                    <a:ext cx="86421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321440" cy="30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30800" cy="307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31172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3500280"/>
            <a:ext cx="433872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6080" y="317520"/>
            <a:ext cx="4184640" cy="29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6520" y="303120"/>
            <a:ext cx="4173480" cy="29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4920" y="3500280"/>
            <a:ext cx="420192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643280" y="3508200"/>
            <a:ext cx="420084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70"/>
          <p:cNvSpPr/>
          <p:nvPr/>
        </p:nvSpPr>
        <p:spPr>
          <a:xfrm>
            <a:off x="395280" y="981000"/>
            <a:ext cx="8424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447840" algn="just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ля    обучения   курсантами   по   программам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полной военно-специальной         подготовкой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рассматриваютс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граждане   Российской  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  имеющие   документы государственного образца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 средн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(полном) общем или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реднем профессионально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образовании или документ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начальном профессиональном образован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нем есть запись о получении среднего (полного) общего образован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indent="447840" algn="just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ля обучения курсантами по программам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о средней военно-специальной подготовко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рассматриваютс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граждане Российской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имеющие документы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реднем (полном) общ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образовании или документ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начальном профессиональном образован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нем есть запись о получении среднего (полного) общего образования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476360" y="2041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БОВАНИЯ  К  КАНДИДА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1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57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70"/>
          <p:cNvSpPr/>
          <p:nvPr/>
        </p:nvSpPr>
        <p:spPr>
          <a:xfrm>
            <a:off x="324000" y="1052640"/>
            <a:ext cx="84247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ждане, не проходившие военную службу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 возраст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т 16 до 22 лет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ждане, прошедшие военную службу, и военнослужащие, проходящие военную службу по призыву,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24 лет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еннослужащие, проходящие военную службу по контракту поступающие в академию для обучения по программам с полной военно-специальной подготовкой,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25 ле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а поступающие в академию для обучения по программам со средней военно-специальной подготовкой, –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30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раст определяется по состоянию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1 августа года приема в военно-учебное заведе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476360" y="2041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НЫЕ КАТЕГ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6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70"/>
          <p:cNvSpPr/>
          <p:nvPr/>
        </p:nvSpPr>
        <p:spPr>
          <a:xfrm>
            <a:off x="395280" y="987480"/>
            <a:ext cx="8424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раждане изъявившие желание поступить в академию, подают заявления в отдел военного комиссариата субъекта Российской Федерации (муниципальный) по месту жительства д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 апреля года приема в военно-учебное заведение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ff0000"/>
                </a:solidFill>
                <a:uFillTx/>
                <a:latin typeface="Times New Roman"/>
              </a:rPr>
              <a:t>Документы (личные дела), военные комиссары субъектов Российской Федерации направляют в академию до 20 мая года прием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емная комиссия учебного заведения на основании рассмотрения поступивших документов кандидатов определяет соответствие отобранных кандидатов требованиям и принимает решение об их допуске к профессиональному отбор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шение доводится до военных комиссариатов субъектов Российской Федерации (муниципальных) по месту жительства кандидатов и лично кандидатам </a:t>
            </a:r>
            <a:r>
              <a:rPr b="1" lang="ru-RU" sz="2300" spc="-1" strike="noStrike" u="sng">
                <a:solidFill>
                  <a:srgbClr val="ff0000"/>
                </a:solidFill>
                <a:uFillTx/>
                <a:latin typeface="Times New Roman"/>
              </a:rPr>
              <a:t>до 20 июня года приема в академию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 указанием времени и места проведения профессио­нального отбора или причин отказ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76360" y="1897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ВАРИТЕЛЬНЫЙ ОТ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7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49"/>
          <p:cNvSpPr/>
          <p:nvPr/>
        </p:nvSpPr>
        <p:spPr>
          <a:xfrm>
            <a:off x="179280" y="90792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надбавка за выслугу лет к окладу денежного содержания в следующих размера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2 до 5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5 до 10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10 до 15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надбавка за работу со сведениями, составляющими государственную тайну (имеющими степень секретности «секретно»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% оклада по воинской долж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ия за добросовестное и эффективное исполнение должностных обязанностей, в зависимости от результатов прошедшей экзаменационной сессии или вступительных экзамен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только отлич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только хорошие и отлич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1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удовлетворитель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ая помощь (1 раз в год) в размер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лада денежного содерж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26920" y="18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УСЛОВИЯ  ОБУЧЕНИЯ  КУРСА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78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46240" y="112536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ов в учебное заведение от места жительства (и обратно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язательным получением стипендии в размере 15-25 тыс. рубл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государственн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тание, проживание, вещевое обеспечение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месту проведения отпус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пол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ительского удостоверения категории «В», «С»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 получения нескольких специаль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упление в военно-учебные заведения происходит раньш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в другие вузы, что дает возможность попытаться поступить в военно-учебные заведения и одновременно подать документы на поступления в другие учебные завед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8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Прямоугольник 6"/>
          <p:cNvSpPr/>
          <p:nvPr/>
        </p:nvSpPr>
        <p:spPr>
          <a:xfrm>
            <a:off x="250920" y="115920"/>
            <a:ext cx="81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ЫЕ ПРЕИМУЩЕСТВА ВОЕННОЙ СЛУЖБ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 ВРЕМЯ УЧЕБЫ В ВОЕННО-УЧЕБНОМ ЗАВЕДЕН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63520" y="1123920"/>
            <a:ext cx="8569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пло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олучении высшего (средне-профессионального) образования общегосударственного образца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антированное трудоустройство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кончании учебного заведения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яя заработная плата лейтенанта от 45 тыс. руб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личие надбавок к зарплат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 занятия спортом за работу со сведениями, составляющими государственную тайну за особые условия службы и другие (до 180% от должностного оклада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ст размера денежного содержания в зависимости от выслуги ле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 к месту проведения отпуск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ратно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лужебным жильем по месту службы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обеспечение жиль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еннослужащего и членов его семьи при увольнении в запас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ход на пенсию в 50 ле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5000-40000 руб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9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6"/>
          <p:cNvSpPr/>
          <p:nvPr/>
        </p:nvSpPr>
        <p:spPr>
          <a:xfrm>
            <a:off x="380880" y="44280"/>
            <a:ext cx="81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ЛЕ ОКОНЧ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ЕННО-УЧЕБНОГО ЗАВЕ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0" y="-458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41200" y="985680"/>
            <a:ext cx="8858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 ноября по 25 декабр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йти в отдел Военного комиссариата Свердловской области (далее ВКСО) (по месту жительств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ТОЧНИТЬ перечень военно-учебных заведений (ВУЗ), порядок поступления в ни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рать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ля поступления 3-4 ВУЗ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ить список общеобразовательных предмето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торым будут необходимы результаты ЕГЭ в выбранный ВУ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тделе ВКСО получить перечень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формирования личного дела кандид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тделе ВКСО заполнить анке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формления допуска к сведениям, составляющих государственную тайн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99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Прямоугольник 1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6:04:52Z</dcterms:created>
  <dc:creator>Учебный отдел</dc:creator>
  <dc:description/>
  <dc:language>en-US</dc:language>
  <cp:lastModifiedBy>Artur</cp:lastModifiedBy>
  <dcterms:modified xsi:type="dcterms:W3CDTF">2016-01-13T08:23:56Z</dcterms:modified>
  <cp:revision>340</cp:revision>
  <dc:subject/>
  <dc:title>Презентация PowerPoint</dc:title>
</cp:coreProperties>
</file>